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A51-4DEC-4B24-B4D7-5735B519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593-E806-4C12-AD29-1ACA354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CB0-5FDA-41A0-80A4-224A533D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CAD-D06D-47A1-A3ED-59778AB2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D9A-99BB-4BBA-9705-16979499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12C-CDCE-4919-A1A5-0418F845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6A1-52E7-4D7B-ABAC-C4EF8FCC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2C4-8BCC-4FF2-96C5-98DF78F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379-7ABE-4CD9-A107-F67C012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921-A745-466D-B229-E59174F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9FA-30E9-4709-8B08-82A215F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D7C-EE39-482C-9E9F-CCF471D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9081-4533-4494-896B-39961052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 Clase 8 NV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2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1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los verb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te the following ver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Habla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2) Nada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(to speak)                  (to sw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las de conjug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Remove the ending of the ve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List the PRONOU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Él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l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d.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3600" y="21636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infinitive ending with the correct new ending according to the prono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los ellas 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81040" y="2697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80680" y="3230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81040" y="3840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75640" y="4449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2200" y="50594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ctica de conversac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153  (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7:30:57Z</dcterms:created>
  <dc:creator>Helen Zumaeta</dc:creator>
  <dc:description/>
  <dc:language>en-US</dc:language>
  <cp:lastModifiedBy>NYCDOE</cp:lastModifiedBy>
  <dcterms:modified xsi:type="dcterms:W3CDTF">2011-11-21T20:30:06Z</dcterms:modified>
  <cp:revision>3</cp:revision>
  <dc:subject/>
  <dc:title>Me llamo ________ Clase 10NM La fecha es el 13 de octubre del 2011</dc:title>
</cp:coreProperties>
</file>